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80F93A-DBCA-4AED-B5E9-7BD7EED8A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C90-3FE3-4F0E-8179-A6FE82E9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110-BF42-4503-ABFB-FA30F28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086-0E1F-4903-89E5-A78F428C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91-8EAE-46CF-BD6B-40D67AB6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ADD8-5793-48CB-9E77-85A64880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7AA8-7189-491D-A5E4-7F62864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B2D4-A0CA-4E2B-AAC2-7728F4F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3846-4E07-4A9B-ACBB-C4ED8C84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24D0-06BC-4E5A-9648-C76346A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2037-A374-41FD-86BE-F3535CD8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A63A-854A-407C-A217-4DA4880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26E-3F5F-43F8-8D4E-C24E9E09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4D54-3E19-46A7-8E5A-C7EBB4D6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A6BF-2BEB-4DBC-BA06-601239FC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66D4-6B4A-4CB5-B805-6EFA63E3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4104-2040-4416-A8EA-114F926B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778A-C7EA-42E5-BC57-909F1678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840C-9ABD-4470-8E4C-28B86F72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AC97-FA47-426B-90FF-91C65195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8BE5-28EB-4590-87F7-CAB1CDA5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5AC9-A406-43E7-8F0A-581E6946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617B-30D6-4C17-9BB4-00763EE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C82-2033-46A3-AA8A-7A12A22B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5FB0-6486-4D51-A35A-15C5C47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0FBD-780B-4BC6-8414-C8548E2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3877-8FA4-4735-B5A9-146973E8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1C5F-26CB-426D-8536-8BCA482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637E-FCEA-4237-A478-D5CAF28A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D984-72E3-4D06-AF83-29D5BFFF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B63D4-F388-4B1A-B9FE-32C0DFB7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5BA4-4B88-48E7-986D-FEF3D30D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5FE1-C25B-430E-8D39-DF871EA0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A113A-7DAB-45C1-815F-AC97FDE8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2D2-64F4-4560-96BD-4661255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D4CB-BA50-4B59-A769-E4C92859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DA3A-F922-47B8-8B4C-0D51FE2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548CE-473B-4F79-941F-5FBA0000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6335-5BAE-4041-B34D-45574FE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D6512-5114-4574-A74F-BD8F07F0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13D0-BCA8-4587-896B-4FC309AB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6F6C-F956-4AB7-8D43-E19560FF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A6F37-A22F-49D2-849D-3E61B92F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D7292-EEB3-4AD9-A3B5-8467453F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BEA-CBA7-4493-B78A-9C03BDD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043-07AC-41FD-BB67-07046212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F17-4F08-4850-B114-684001B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A6E-17E0-471C-AA79-D14939C5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717-EC17-4AB6-BA1D-D33D57F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000019-1C46-4A0B-B14D-735F34E49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60426-F103-48BC-AA32-31CEE6DEE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F338A-50F2-41C2-B55C-772ADC05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A96BC-25BE-4FD0-AE05-218B69737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2908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6769080" y="2125800"/>
            <a:ext cx="3311640" cy="2590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3529080" y="2125800"/>
            <a:ext cx="3311280" cy="25905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5800"/>
            <a:ext cx="3311280" cy="2590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m atmospheric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A40 T2M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17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68680" y="4572000"/>
            <a:ext cx="327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2000"/>
            <a:ext cx="3309840" cy="2592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3562200" y="2104920"/>
            <a:ext cx="3275280" cy="2633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6769080" y="2124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4000"/>
            <a:ext cx="3311280" cy="25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SST SST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39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68360" y="16225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6000" y="179532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between multi-model ensemble-mean and ERSST S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64000" y="3203640"/>
            <a:ext cx="16556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rcRect l="1685" t="0" r="0" b="2382"/>
          <a:stretch/>
        </p:blipFill>
        <p:spPr>
          <a:xfrm>
            <a:off x="6707160" y="5151600"/>
            <a:ext cx="3373560" cy="2403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rcRect l="1685" t="0" r="0" b="2382"/>
          <a:stretch/>
        </p:blipFill>
        <p:spPr>
          <a:xfrm>
            <a:off x="3395520" y="5149800"/>
            <a:ext cx="3373560" cy="24051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rcRect l="0" t="0" r="0" b="2382"/>
          <a:stretch/>
        </p:blipFill>
        <p:spPr>
          <a:xfrm>
            <a:off x="69840" y="5148360"/>
            <a:ext cx="3456000" cy="235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rcRect l="0" t="0" r="1685" b="2382"/>
          <a:stretch/>
        </p:blipFill>
        <p:spPr>
          <a:xfrm>
            <a:off x="6624720" y="2484360"/>
            <a:ext cx="3397320" cy="23860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rcRect l="0" t="0" r="1685" b="2382"/>
          <a:stretch/>
        </p:blipFill>
        <p:spPr>
          <a:xfrm>
            <a:off x="3378240" y="2484360"/>
            <a:ext cx="3390840" cy="2379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rcRect l="0" t="0" r="1685" b="0"/>
          <a:stretch/>
        </p:blipFill>
        <p:spPr>
          <a:xfrm>
            <a:off x="0" y="2484360"/>
            <a:ext cx="3462480" cy="2492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928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3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928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6072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4544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Which major events are misse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 Surface Temperature anomalies (155°E-235°E, 10°N-45°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7280" y="3132000"/>
            <a:ext cx="7345440" cy="3672000"/>
            <a:chOff x="287280" y="3132000"/>
            <a:chExt cx="7345440" cy="3672000"/>
          </a:xfrm>
        </p:grpSpPr>
        <p:sp>
          <p:nvSpPr>
            <p:cNvPr id="564" name=""/>
            <p:cNvSpPr/>
            <p:nvPr/>
          </p:nvSpPr>
          <p:spPr>
            <a:xfrm>
              <a:off x="28728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7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1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892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036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200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4520" y="3692520"/>
            <a:ext cx="5110200" cy="3616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rcRect l="0" t="0" r="0" b="1429"/>
          <a:stretch/>
        </p:blipFill>
        <p:spPr>
          <a:xfrm>
            <a:off x="5041800" y="3692520"/>
            <a:ext cx="5038920" cy="3616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796080" y="950760"/>
            <a:ext cx="3284640" cy="2324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87280" y="1047600"/>
            <a:ext cx="6192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wo major warmings in the North Pacific Ocean in 1963 and 1968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6720" y="5940360"/>
            <a:ext cx="194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01080" y="6156360"/>
            <a:ext cx="57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80000" y="3997440"/>
            <a:ext cx="172908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16720" y="464508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96360" y="5925960"/>
            <a:ext cx="1368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Fluxes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9072720" y="5437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84720" y="6013440"/>
            <a:ext cx="143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7280" y="3132000"/>
            <a:ext cx="496908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a Surface Temperature 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84720" y="3132000"/>
            <a:ext cx="4896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ward surface heat fluxes anomalies        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1835280"/>
            <a:ext cx="1439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55-235°E   10-45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71640"/>
            <a:ext cx="986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o links with the main modes of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82520" y="1619280"/>
            <a:ext cx="4498920" cy="318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5148360" y="1619280"/>
            <a:ext cx="4500360" cy="318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2882880" y="4532400"/>
            <a:ext cx="4102200" cy="28479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201080" y="5580000"/>
            <a:ext cx="25207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rl.noaa.gov/psd/data/climateindi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9280" y="4932360"/>
            <a:ext cx="1512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655640" y="3492360"/>
            <a:ext cx="360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3280" y="6516720"/>
            <a:ext cx="2087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-month running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32000" y="6011640"/>
            <a:ext cx="1295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688000" y="2700360"/>
            <a:ext cx="3673440" cy="4859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3080" y="2532240"/>
            <a:ext cx="5327640" cy="37684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80-205°E – 35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35640" y="3419640"/>
            <a:ext cx="2174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35640" y="3564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275520" y="3635280"/>
            <a:ext cx="144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27280" y="2987640"/>
            <a:ext cx="129708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4720" y="1657440"/>
            <a:ext cx="6264360" cy="59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rancisco J Doblas-Rey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ui Du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 perturbations, sea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avier G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-Serrano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O, African mon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rginie Guema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ea ice, North Pacific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bian Lienert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regionalisation, PDO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lanie Davi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anila Volpi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uis Ricardo Rodrigue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NSO, statis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da P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uhammad Asif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iol Mula-Vall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ystem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mingo Manuben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utosubmit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360" y="4538520"/>
            <a:ext cx="36036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360" y="3144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4360" y="2214720"/>
            <a:ext cx="360360" cy="23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44360" y="364968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4360" y="4078440"/>
            <a:ext cx="360360" cy="22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44360" y="50166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44360" y="177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44360" y="2712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44360" y="54738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44360" y="645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144360" y="688968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44360" y="5978520"/>
            <a:ext cx="360360" cy="239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6000" y="971640"/>
            <a:ext cx="9720000" cy="537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ur focus : Seasonal to decadal prediction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1979640"/>
            <a:ext cx="3311280" cy="209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share, on reque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decadal hin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sea ic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 diagnostic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2000" y="4572000"/>
            <a:ext cx="3024000" cy="25192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run 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enostrum ( Spa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ECTOR ( Scotla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ndgren ( Swede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92000" y="104292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advection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rcRect l="0" t="0" r="2696" b="0"/>
          <a:stretch/>
        </p:blipFill>
        <p:spPr>
          <a:xfrm>
            <a:off x="5184720" y="2916360"/>
            <a:ext cx="4824360" cy="3528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45080" y="2548080"/>
            <a:ext cx="41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backward trajectories computed with AR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84720" y="6156360"/>
            <a:ext cx="4751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IANE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http://stockage.univ-brest.fr/~grima/Ariane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848720" y="5148360"/>
            <a:ext cx="1726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ril 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8353440" y="4787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04000" y="5364000"/>
            <a:ext cx="223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vember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976720" y="5148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modulation of the amplitude by mix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rcRect l="0" t="0" r="5393" b="0"/>
          <a:stretch/>
        </p:blipFill>
        <p:spPr>
          <a:xfrm>
            <a:off x="4968720" y="2843280"/>
            <a:ext cx="5112000" cy="3744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327640" y="2484360"/>
            <a:ext cx="468000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 climatological mixed layer depth ( 35°N-45°N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33080" y="2843280"/>
            <a:ext cx="647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686560" y="2701800"/>
            <a:ext cx="3674880" cy="48578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1280" y="2532240"/>
            <a:ext cx="5326200" cy="37670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68360" y="3706920"/>
            <a:ext cx="3024360" cy="19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47640" y="1042920"/>
            <a:ext cx="8785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upward transfer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982960" y="2627280"/>
            <a:ext cx="3674880" cy="4857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808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amplification by the atmosphere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504720" y="2987640"/>
            <a:ext cx="4248360" cy="3006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008000" y="2411280"/>
            <a:ext cx="338472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nd speed anomalies (170-235°E,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09800" y="5075280"/>
            <a:ext cx="100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FS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52360" y="442728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73440" y="4932360"/>
            <a:ext cx="93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05440" y="4642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27640" y="2703600"/>
            <a:ext cx="3675240" cy="48578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256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008000" y="97164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tratification in the Pacific Oce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0" r="0" b="7146"/>
          <a:stretch/>
        </p:blipFill>
        <p:spPr>
          <a:xfrm>
            <a:off x="1062000" y="451152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rcRect l="0" t="0" r="0" b="7146"/>
          <a:stretch/>
        </p:blipFill>
        <p:spPr>
          <a:xfrm>
            <a:off x="5167440" y="4427640"/>
            <a:ext cx="4076640" cy="31068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rcRect l="0" t="0" r="0" b="7146"/>
          <a:stretch/>
        </p:blipFill>
        <p:spPr>
          <a:xfrm>
            <a:off x="1063800" y="1798560"/>
            <a:ext cx="4319280" cy="30574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rcRect l="0" t="0" r="0" b="7146"/>
          <a:stretch/>
        </p:blipFill>
        <p:spPr>
          <a:xfrm>
            <a:off x="5167440" y="1763640"/>
            <a:ext cx="4103640" cy="3059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rot="16200000">
            <a:off x="-69228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-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-69228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787572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787572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57280" y="1692360"/>
            <a:ext cx="7039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MA mixed layer depth (density criteria)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1640" y="2266920"/>
            <a:ext cx="9433080" cy="46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rth Pacific region = region of lowest skill in near-term climate predictions ( 2- 5 yea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jor warm events around 1963 and 1968 missed by every forecasting systems = main cause for the low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3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heat anomaly advected along the Kuroshio-Oyashio and confined to an increasingly thinnner mix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8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ep heat anomaly transferred toward the surface and then amplified by the atmospheric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ases in the Pacific ocean stratification could be responsible for the failure of the forecas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3280" y="248436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84360" y="4572000"/>
            <a:ext cx="6769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guemas@ic3.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10080720" cy="330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16000" y="6281640"/>
            <a:ext cx="705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g. 2 of Meehl et al. (2009, B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195560" y="5195880"/>
            <a:ext cx="3420360" cy="344160"/>
            <a:chOff x="1195560" y="5195880"/>
            <a:chExt cx="3420360" cy="344160"/>
          </a:xfrm>
        </p:grpSpPr>
        <p:sp>
          <p:nvSpPr>
            <p:cNvPr id="208" name=""/>
            <p:cNvSpPr/>
            <p:nvPr/>
          </p:nvSpPr>
          <p:spPr>
            <a:xfrm>
              <a:off x="1200240" y="5538600"/>
              <a:ext cx="3410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97000" y="545004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5560" y="51958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4920" y="540144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3120" y="53568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1680" y="53110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98440" y="527796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7000" y="52434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5560" y="54892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17520" y="5635800"/>
            <a:ext cx="3420720" cy="343800"/>
            <a:chOff x="1217520" y="5635800"/>
            <a:chExt cx="3420720" cy="343800"/>
          </a:xfrm>
        </p:grpSpPr>
        <p:sp>
          <p:nvSpPr>
            <p:cNvPr id="218" name=""/>
            <p:cNvSpPr/>
            <p:nvPr/>
          </p:nvSpPr>
          <p:spPr>
            <a:xfrm>
              <a:off x="1221840" y="5978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600" y="5889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7520" y="56358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6880" y="584100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5080" y="57967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3640" y="57510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0400" y="5717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600" y="5682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7520" y="59292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93760" y="4730760"/>
            <a:ext cx="3420720" cy="344160"/>
            <a:chOff x="1193760" y="4730760"/>
            <a:chExt cx="3420720" cy="344160"/>
          </a:xfrm>
        </p:grpSpPr>
        <p:sp>
          <p:nvSpPr>
            <p:cNvPr id="228" name=""/>
            <p:cNvSpPr/>
            <p:nvPr/>
          </p:nvSpPr>
          <p:spPr>
            <a:xfrm>
              <a:off x="1198080" y="5073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840" y="4984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760" y="47307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2760" y="49359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1320" y="4891680"/>
              <a:ext cx="3411720" cy="10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9880" y="4845960"/>
              <a:ext cx="341136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6640" y="4812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4840" y="4777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3760" y="50241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92320" y="4290840"/>
            <a:ext cx="3420720" cy="344160"/>
            <a:chOff x="1192320" y="4290840"/>
            <a:chExt cx="3420720" cy="344160"/>
          </a:xfrm>
        </p:grpSpPr>
        <p:sp>
          <p:nvSpPr>
            <p:cNvPr id="238" name=""/>
            <p:cNvSpPr/>
            <p:nvPr/>
          </p:nvSpPr>
          <p:spPr>
            <a:xfrm>
              <a:off x="1197000" y="4633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93760" y="454536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2320" y="42908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1680" y="449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51760"/>
              <a:ext cx="3411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8440" y="440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5200" y="4372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760" y="43380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2320" y="45846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82600" y="3849840"/>
            <a:ext cx="3420720" cy="343800"/>
            <a:chOff x="1182600" y="3849840"/>
            <a:chExt cx="3420720" cy="343800"/>
          </a:xfrm>
        </p:grpSpPr>
        <p:sp>
          <p:nvSpPr>
            <p:cNvPr id="248" name=""/>
            <p:cNvSpPr/>
            <p:nvPr/>
          </p:nvSpPr>
          <p:spPr>
            <a:xfrm>
              <a:off x="1186920" y="41925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3680" y="4104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8498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1600" y="405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90160" y="40107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720" y="396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5480" y="3931560"/>
              <a:ext cx="3411720" cy="144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83680" y="3897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41432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170000" y="3421080"/>
            <a:ext cx="3420720" cy="344160"/>
            <a:chOff x="1170000" y="3421080"/>
            <a:chExt cx="3420720" cy="344160"/>
          </a:xfrm>
        </p:grpSpPr>
        <p:sp>
          <p:nvSpPr>
            <p:cNvPr id="258" name=""/>
            <p:cNvSpPr/>
            <p:nvPr/>
          </p:nvSpPr>
          <p:spPr>
            <a:xfrm>
              <a:off x="1174320" y="37641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1080" y="367560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0000" y="34210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9000" y="36262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77560" y="35823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75760" y="353628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2880" y="3503160"/>
              <a:ext cx="341136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71080" y="34682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70000" y="37148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360600"/>
            <a:ext cx="214560" cy="268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291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01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12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342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527280" y="615636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368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78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99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409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419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27280" y="3132000"/>
            <a:ext cx="1152720" cy="297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03640" y="488304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03640" y="531648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03640" y="574668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03640" y="44514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03640" y="4017960"/>
            <a:ext cx="14436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03640" y="3586320"/>
            <a:ext cx="144360" cy="14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03640" y="320508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5928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5928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5928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5928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5928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1672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1672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1672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1672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672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7272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07272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7272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7272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7272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7272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7272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vguemas</cp:lastModifiedBy>
  <dcterms:modified xsi:type="dcterms:W3CDTF">2012-01-08T21:59:42Z</dcterms:modified>
  <cp:revision>157</cp:revision>
  <dc:subject/>
  <dc:title>Diapositiva 1</dc:title>
</cp:coreProperties>
</file>